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1AEE-F9A5-4707-ABD4-B9C1AD8B6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040-F0FD-4C87-87B9-C1287232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D68-883E-4BDD-8C64-7B41A05A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57D9-97AC-405E-96E6-719B3EA5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E2D-6AD4-4941-9375-D1AEB77C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FEE76-FF97-47CD-B736-C15D407F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73894-57E1-4382-9922-4D03829F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30285-0529-4857-858D-B868E26C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AD2A8-3E79-48C3-9A68-06E36A55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3F00B-3F17-4B79-8AEC-0E0065C9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DE68D-38C4-4C63-A076-30C2E423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7B4E9-CAF5-4730-8F45-05D813F1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86C-B5C0-43B9-A501-05AF10AA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37B8A-AA19-4688-AD7F-EA3643B7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09509-D1E0-4F71-8FB3-98C363E3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02C01-4663-4935-8C60-922F5FA9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1DD62-1284-4317-8BF6-AD6D6E01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684BB-729E-416B-927D-B822818B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0BC-17F2-499E-B928-80E79402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701-8E97-4945-A26D-2B35BD1B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620-F158-49AE-80A0-594B03D8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B52-C760-4A98-8C27-57108DB7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379-7D9F-4BEC-A828-5BCB3050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2A6-ECBE-496E-92ED-B462D643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B4A-6D61-45CA-811B-59B8BA5E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2CBE-87D7-46F9-A560-C047D9468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826B-4E54-41D6-B659-FED20B2F4E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Education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r. Anderson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Trait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rustworthines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egri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having the same ethical way in any situation or place; being your best self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5" descr="j0183168"/>
          <p:cNvPicPr/>
          <p:nvPr/>
        </p:nvPicPr>
        <p:blipFill>
          <a:blip r:embed="rId1"/>
          <a:stretch/>
        </p:blipFill>
        <p:spPr>
          <a:xfrm>
            <a:off x="3733920" y="3962520"/>
            <a:ext cx="190188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j0183168"/>
          <p:cNvPicPr/>
          <p:nvPr/>
        </p:nvPicPr>
        <p:blipFill>
          <a:blip r:embed="rId1"/>
          <a:stretch/>
        </p:blipFill>
        <p:spPr>
          <a:xfrm>
            <a:off x="5716440" y="301464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Blind Woman and the Physician.”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Aesop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ing honest and reliable in carrying out commitments, duties, and oblig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Picture 7" descr="j0300840"/>
          <p:cNvPicPr/>
          <p:nvPr/>
        </p:nvPicPr>
        <p:blipFill>
          <a:blip r:embed="rId1"/>
          <a:stretch/>
        </p:blipFill>
        <p:spPr>
          <a:xfrm>
            <a:off x="3733920" y="3581280"/>
            <a:ext cx="18144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j0300840"/>
          <p:cNvPicPr/>
          <p:nvPr/>
        </p:nvPicPr>
        <p:blipFill>
          <a:blip r:embed="rId1"/>
          <a:stretch/>
        </p:blipFill>
        <p:spPr>
          <a:xfrm>
            <a:off x="5759280" y="3083040"/>
            <a:ext cx="181476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j0300840"/>
          <p:cNvPicPr/>
          <p:nvPr/>
        </p:nvPicPr>
        <p:blipFill>
          <a:blip r:embed="rId1"/>
          <a:stretch/>
        </p:blipFill>
        <p:spPr>
          <a:xfrm>
            <a:off x="5105520" y="3083040"/>
            <a:ext cx="24685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Loyal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3637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26Z</dcterms:modified>
  <cp:revision>8</cp:revision>
  <dc:subject/>
  <dc:title>Character Education Trustworthiness</dc:title>
</cp:coreProperties>
</file>